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7AB-16C5-40A9-83F2-A10064AB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82B-F64D-4727-8CCB-87F3B95A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A2281-3663-47CA-8847-31EF0185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568B5-AF31-4DF4-8CFA-D90FAFCF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99D39-2AF3-41E9-B5D6-3E7EF968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D5D3B-07CD-4161-B722-C57D8CF3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955F0-7280-4CDB-AF0A-EE431CBE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542E5-40BA-4FF2-915D-A2019B62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F20B6-5C24-4158-BAE6-30E771F9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738EA-FCE6-43D1-A879-72628859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089F6-D392-4091-8A02-AF3FEAF7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E63-159C-43CA-A331-0A26AE0F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B06-9FBA-424F-8648-7083D408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FBC0-B20C-4B42-BA8E-D210725C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92C7-76FA-4B4A-8485-4DE52C81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6DF8-408E-473A-BA1D-F9356432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A0B4-4E97-409E-AD37-AF339DC9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4FBD-101A-4B93-82BD-EA975918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6BA2-EBDD-4A27-85B4-502AD35D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7F30-733C-4D19-8151-00B23DDE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E5B-C811-49AF-B0F0-308A2963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1FD4-0A0B-4C13-95BB-0B0A6BFA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64B6-F32D-48D8-A865-A31AAE60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4598-3300-4D4D-BC78-614CB076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8154-DFEF-4FAB-BE26-09E39061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61B6-A28B-43C4-994A-776978D7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4B858-C116-4F61-8C27-487BFACC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717E-9B96-4244-B28B-B6078398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272CB-AFEE-44D7-B6A9-D898E002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04B5-8BC5-45DB-8BF5-4987B980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BE84-1385-4C02-B00D-3B4F8A6E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FDB-2398-4AF8-9ADE-18517185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1537A-11D5-4947-95F2-49F92A3D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5C3FA-075C-47C4-B8A7-A97C60FF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2E701-5FD6-461C-9C6C-B5C22D28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13453-2DA6-4094-AABC-3C583DB5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A3A5F-378C-4130-8E80-35D5BF12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E6AE9-2BD9-4E12-8C5C-EB479A82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626EF-D4A8-4548-BDA6-8025B7D3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485CE-49CE-4CE8-A205-28CC043A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3CAC0-2AFF-43F7-A9F7-CAE7B45C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85460-6142-4987-9F84-D1C4CC2C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D57-8111-4C3E-B221-2AE060C1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04B5E-5A9F-4881-BEEA-232A69C9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44D06-7F24-4677-9605-18F57939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68A07-11B1-446A-BC33-91C5E39A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400F2-2BCA-4B7C-AC4D-8B9B7F36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FE343-5EF1-48BE-9DF4-3E1FE238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605FE-A1F0-4911-9403-87564EC6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6C369-63B4-41EF-AB48-8506DF00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F7C62-2A52-4109-9535-15E8CAA1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4D0CF-16E2-4FA9-A5FF-04B834EE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77D12-E9A6-4DD5-AA81-7A3AD294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CF6-124C-45F0-B64A-6759A159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E5468-CFDB-4246-A257-6B274E89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7B1E0-2B16-4CBA-81C2-21C7EDE8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AC240-1C8B-49D2-BCE6-A1FDE446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FE630-34AA-457E-B9FF-EDA1A579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61139-9E11-4D3B-A024-33162D28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C0632-6D06-4E77-84C4-AC3FCA54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C6081-3BE6-466E-9A9A-46BF4F73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8ED9E-DC3F-4497-AE7F-467CF780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CCD22-00C4-4D5E-AB12-A5FD0F69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6740A-0191-4BC6-AE5D-DBAFB58F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99C-BF1E-464C-B6DA-60BF14BC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6F523-BE1D-4AF6-8D64-0F168DEB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67D24-0A4E-4C98-A371-492EFC92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A21F9-682D-493B-B0EF-E068421A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5A6A9-5E74-429A-B6AF-F7ABF53F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345ED-9E92-42ED-BEA7-BE58AD3F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2101A-EDC9-4FE4-A6CE-32B85694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30034-0C36-4DCD-BB2E-DCA1886D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07E98-C7F8-48A2-8A7F-FE86041F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ABE47-092A-493D-9ECF-B6CB8EB3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F7E8B-B8FC-4518-9DE0-55D17C37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98D-9539-48C5-8967-95A45022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EF767-9691-4EBF-BFED-AEC1D12D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BE4D5-810A-4186-834E-5AAED9D0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001AE-FD88-4322-B95B-FE946307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5FF63-3345-4BA3-8875-7002F697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29EEB-5694-44CC-AD31-85B9291E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16CAC-8C72-402F-8702-7923E010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F2495-9278-4887-B8C6-1282770E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DED71-BBFF-42A9-8E00-28E868B3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9A347-40C9-478A-9515-94812B74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8145B-B74C-4046-85A4-BF4CEBA0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7F5-3ED0-4FE6-AC51-EB2FECD9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0870B-E4C4-4453-8676-6306E48A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A5903-6632-4D9F-83BE-06F1F1B1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7747A-33CE-42E2-83E5-7AF27CB6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A48ED-8574-45D8-B5F0-2A1BBE8D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1D4CD-FD17-479B-A67C-1943737F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7C87C-D046-44BA-BAF3-0F5BEBD8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A93AC-AA9F-4D52-9C65-51F491AD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6F687-84E6-4011-AF5C-81F41D3F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673A8-796C-46E0-82D9-BA682FC2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5FA66-3723-481E-B35F-8E87A59D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703-7D71-4D8E-B2F9-605FA1BF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5ADA5-CC97-4E7E-91CC-4772FE4A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CB019-0EEF-4E18-BECF-894F8041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37DAA-5959-4AB0-918D-9D8BF9BB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A72FC-96B2-4F01-BE16-A39B7B38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0FFBE-7DD8-4CC7-9D35-50864447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700B1-B400-4A68-A370-795D4E74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F9609-A432-422B-9C7B-B5C06216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5171B-7776-43F3-98D1-539C2538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FD842-2CDF-420F-AFE4-0FDE67F6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434F3-C4DC-4D00-882F-A31F1D14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E82A-CD7C-4ED9-BD39-08744B5FBB2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907B-661A-474B-B8B3-179BB3CE78D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9985-4107-4573-9351-D9FD342BE2A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AF14-5617-469E-A7AC-BC2F80EF8EA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3D6E-A661-4D86-AB92-C5296E28E0D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A2FA-2E37-4DD4-B18F-E58C43FF84F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A57C-E2C9-4575-97A7-A91891D9C67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B430-070A-4001-952B-46181B103DA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BF58-573A-4390-B400-ED221FF47C1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378000" y="895320"/>
            <a:ext cx="8467560" cy="1689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Carnel Grace Ilustico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33200" y="774720"/>
            <a:ext cx="886464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60480" y="530280"/>
            <a:ext cx="88642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60480" y="1047600"/>
            <a:ext cx="8943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60480" y="371520"/>
            <a:ext cx="911376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60480" y="530280"/>
            <a:ext cx="88642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60480" y="774720"/>
            <a:ext cx="90532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133200" y="695160"/>
            <a:ext cx="89982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285840" y="450720"/>
            <a:ext cx="89866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33200" y="1427040"/>
            <a:ext cx="90172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60480" y="603360"/>
            <a:ext cx="910260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60480" y="450720"/>
            <a:ext cx="89312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23:33:59Z</dcterms:created>
  <dc:creator>personal</dc:creator>
  <dc:description/>
  <dc:language>en-US</dc:language>
  <cp:lastModifiedBy>Cobillo</cp:lastModifiedBy>
  <dcterms:modified xsi:type="dcterms:W3CDTF">2012-03-25T01:33:08Z</dcterms:modified>
  <cp:revision>33</cp:revision>
  <dc:subject/>
  <dc:title>EDUCATIONAL TERM</dc:title>
</cp:coreProperties>
</file>